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279-B2D3-4E2E-922E-D4F402F2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0D5-5678-467D-A22B-E693089F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5D0-9B94-4BC1-A1C5-A7D04D76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041-50EB-4355-BB72-B7966784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085-0C99-44FF-8755-E1177D1D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6D55-BF12-4750-BB3A-9BA70BDC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454-B23E-42E7-995E-120BB27F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E213-FEC2-4000-8D94-0AE9022E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49EE-2303-4490-AC90-BEB2AF96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C5A-A684-475F-AF15-FF835E3C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804A-4ED1-4029-B7AA-BB351B53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D5F-A38A-423A-8534-76615CBA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57D4-F81D-4CF7-86C1-68BFABDA5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amaica Louise Jame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lea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kee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pleas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tre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mea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rea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th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w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b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e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peopl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stream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stee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amaica Louise Jame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tre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th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Jamaica Louise Jame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. stre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. stee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. spee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 peacef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430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. lea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1. coff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. snea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3. meaningfu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seash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deep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sunbe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. plea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. neat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 rea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5. clea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6. scre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7. kne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.Cobb</cp:lastModifiedBy>
  <dcterms:modified xsi:type="dcterms:W3CDTF">2008-01-04T12:05:35Z</dcterms:modified>
  <cp:revision>4</cp:revision>
  <dc:subject/>
  <dc:title>The Art Lesson Group A</dc:title>
</cp:coreProperties>
</file>